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740-75D4-4FB0-B52B-2CE7BB62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F8E-6A85-4843-B028-87090F0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635-DB33-414B-BBB2-75EE52EC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D2C-D0C6-40D8-A5E0-FCD6C61B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2C8A-D45C-424C-9329-63BEECC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C55-3F7C-4090-8598-4741A1DD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5C83-9E51-4904-8652-FD943D38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127-F035-42EF-92E6-DF806A8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B6C1-FF47-47C9-9F53-D12DE77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75EB-E171-4A03-8EE0-4B86C0C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8157-5A4C-423D-B9A4-C085E4E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98D-B4C1-4DDE-8D9F-C5091AA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359-2A1F-49C0-9A3D-F0F3DD08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FAA-5E0E-4F49-8FA6-AE450E6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B710-8FD4-4558-A635-4F9BDAF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D5A2-B09D-4B47-9BBE-2AB2F473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F05C-7796-48F2-9E1E-401F18A9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856-9B0D-4B85-AA66-A3A1D348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5A3-72E7-4588-95CD-39B5B96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0DA-12E9-49D4-AD54-6FBCF12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28C-A52E-4E57-9160-DC6BFA38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A40-4163-4076-8242-0684C2B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5FB-A6CF-491E-86FF-25B3C1F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133-03E0-40AA-9435-D3EAC31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E6C-93BC-4075-BB38-8436D560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F45-1430-4E95-B74B-1CBE0BAE2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6" descr="A2506_trombone_2col_1749"/>
          <p:cNvPicPr/>
          <p:nvPr/>
        </p:nvPicPr>
        <p:blipFill>
          <a:blip r:embed="rId3"/>
          <a:stretch/>
        </p:blipFill>
        <p:spPr>
          <a:xfrm>
            <a:off x="4495680" y="4038480"/>
            <a:ext cx="4267440" cy="173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80880" y="463068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rombone’s mute absorbs some of the sound waves produced, thus producing a softer note when play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191120" y="5410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4"/>
          <a:stretch/>
        </p:blipFill>
        <p:spPr>
          <a:xfrm>
            <a:off x="7620120" y="990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  by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Travel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ore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quickly through solid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Sound is carried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o our ear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hrough vibrating air molecul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2362320" y="4545000"/>
            <a:ext cx="4038480" cy="2313000"/>
            <a:chOff x="2362320" y="4545000"/>
            <a:chExt cx="4038480" cy="2313000"/>
          </a:xfrm>
        </p:grpSpPr>
        <p:pic>
          <p:nvPicPr>
            <p:cNvPr id="89" name="Picture 10" descr="eardi"/>
            <p:cNvPicPr/>
            <p:nvPr/>
          </p:nvPicPr>
          <p:blipFill>
            <a:blip r:embed="rId2"/>
            <a:stretch/>
          </p:blipFill>
          <p:spPr>
            <a:xfrm>
              <a:off x="2362320" y="4545000"/>
              <a:ext cx="4038480" cy="231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0" name="AutoShape 7"/>
            <p:cNvSpPr/>
            <p:nvPr/>
          </p:nvSpPr>
          <p:spPr>
            <a:xfrm>
              <a:off x="3886200" y="6019920"/>
              <a:ext cx="1447560" cy="533160"/>
            </a:xfrm>
            <a:prstGeom prst="upArrowCallout">
              <a:avLst>
                <a:gd name="adj1" fmla="val 67883"/>
                <a:gd name="adj2" fmla="val 67876"/>
                <a:gd name="adj3" fmla="val 16667"/>
                <a:gd name="adj4" fmla="val 66660"/>
              </a:avLst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 Linotype"/>
                </a:rPr>
                <a:t>Middle Ear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Back and forth movement of molecule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3" name="Picture 5" descr="musicnoise"/>
          <p:cNvPicPr/>
          <p:nvPr/>
        </p:nvPicPr>
        <p:blipFill>
          <a:blip r:embed="rId2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iver"/>
          <p:cNvPicPr/>
          <p:nvPr/>
        </p:nvPicPr>
        <p:blipFill>
          <a:blip r:embed="rId3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here molecules are being pressed together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7" name="Picture 5" descr="1Fig2"/>
          <p:cNvPicPr/>
          <p:nvPr/>
        </p:nvPicPr>
        <p:blipFill>
          <a:blip r:embed="rId2"/>
          <a:stretch/>
        </p:blipFill>
        <p:spPr>
          <a:xfrm>
            <a:off x="4581360" y="2590920"/>
            <a:ext cx="4349880" cy="3504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04920" y="2057400"/>
            <a:ext cx="426708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wave travels through the springs just like sound waves travel through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places where the springs are close together are like compressions in the ai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ternating areas of high &amp; low pressur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move out in ALL direction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114300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avelengt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distance between on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art of a wave and the 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Frequency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Picture 9" descr="image001"/>
          <p:cNvPicPr/>
          <p:nvPr/>
        </p:nvPicPr>
        <p:blipFill>
          <a:blip r:embed="rId2"/>
          <a:stretch/>
        </p:blipFill>
        <p:spPr>
          <a:xfrm>
            <a:off x="495288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freq-wavelength"/>
          <p:cNvPicPr/>
          <p:nvPr/>
        </p:nvPicPr>
        <p:blipFill>
          <a:blip r:embed="rId3"/>
          <a:stretch/>
        </p:blipFill>
        <p:spPr>
          <a:xfrm>
            <a:off x="5410080" y="4419720"/>
            <a:ext cx="350532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876240" y="3048120"/>
            <a:ext cx="7391520" cy="198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 measure of how high or low a sound i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pends on the frequency of a sound wave;  for example: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04920" y="5029200"/>
            <a:ext cx="31240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257800" y="5105520"/>
            <a:ext cx="36576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strument that uses reflected sound waves to find underwater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3" name="Picture 5" descr="sonar"/>
          <p:cNvPicPr/>
          <p:nvPr/>
        </p:nvPicPr>
        <p:blipFill>
          <a:blip r:embed="rId2"/>
          <a:stretch/>
        </p:blipFill>
        <p:spPr>
          <a:xfrm>
            <a:off x="304920" y="2743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onar"/>
          <p:cNvPicPr/>
          <p:nvPr/>
        </p:nvPicPr>
        <p:blipFill>
          <a:blip r:embed="rId3"/>
          <a:stretch/>
        </p:blipFill>
        <p:spPr>
          <a:xfrm>
            <a:off x="3124080" y="27432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onar"/>
          <p:cNvPicPr/>
          <p:nvPr/>
        </p:nvPicPr>
        <p:blipFill>
          <a:blip r:embed="rId4"/>
          <a:stretch/>
        </p:blipFill>
        <p:spPr>
          <a:xfrm>
            <a:off x="6276960" y="4343400"/>
            <a:ext cx="265752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304920" y="4876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imals use sonar or echo location to find their prey; these sounds have such a high pitch or frequency that the human ear cannot hea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477120" y="25290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0:30Z</dcterms:created>
  <dc:creator>John Doe</dc:creator>
  <dc:description/>
  <cp:keywords/>
  <dc:language>en-US</dc:language>
  <cp:lastModifiedBy>St. Aloysius</cp:lastModifiedBy>
  <dcterms:modified xsi:type="dcterms:W3CDTF">2011-10-05T13:10:49Z</dcterms:modified>
  <cp:revision>52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